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drumroll.wav" ContentType="audio/x-wav"/>
  <Override PartName="/ppt/media/chimes.wav" ContentType="audio/x-wav"/>
  <Override PartName="/ppt/media/type.wav" ContentType="audio/x-wav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9E4-527B-4B43-ABDE-7F7455E5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00A-CC78-4094-9000-88D16CC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8D2-1AE8-4031-B675-E93B4B33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987-924A-4F74-9E8D-8B6C6D37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AAE2-BAB9-4406-A130-81EA469F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1A2A-54A3-4E7B-9C87-371D7F06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14D6-F8C9-4349-B322-D573DC03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4F96-7606-4D47-87FD-2C0B594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D16-7C65-464B-BFE7-DAD67F5A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E1B-9F95-4114-A879-9FA14AAE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CD3B-2A21-431D-90B1-58A8630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549-54AE-4874-9E6D-D0921104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0AE9-80CC-45D2-BB82-E4F8810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C76-071D-451F-9DD0-B57A461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67B5-D5C2-4C96-A0E6-E609EC2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FFB-523F-4B09-BA7F-1EDED40D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7C0-09F6-4955-8358-67B497C6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5BF-EAB2-4E5B-85DA-21D3BC9B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F19-D811-44B8-8CC9-03874B81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AAE-B544-489E-BE5D-E57896FA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500-B09C-4FFF-900C-9E6C5AB8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665-AC22-4C2A-A4A9-A32745F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A3C-CC9F-42F0-84D0-99BD611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638-31A4-4C3E-87BF-669737D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89F5-7CD2-48E2-AD8B-C6DEBBF6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718A-97EB-45A9-8D03-95CE9623B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ulumoon.com/details.asp?ProductCode=161-00081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NGLIS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(Somebody)______________________ wants _______________, but ___________________, so _______________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What things does she constantly grieve ov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What things does Mathilde Loisel dream 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Describe Mr. Loisel’s feelings for his wife.  Give specific examples to support your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Give an example of an idiom from the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hat did Mathilde Loisel borrow from Mme. Foresti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How has Madame Loisel changed from the beginning of the story to the end?  List several examp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What does the necklace symbolize when Madam Loisel first sees it in the black satin bo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he loses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truth of it is revea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 Give examples of irony from the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 Summarize the plot:  _______________ wants _______________, but ________________, so ______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tory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eck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Kristen ITC"/>
              </a:rPr>
              <a:t>In one paragraph respond to the following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esty is the best policy” is a common saying. Do you agree or disagree with it?  Explain your answer. Tell about a time when you obeyed/disobeyed this say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as invol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iss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you change your decision? Why or why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The Necklace”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240" y="30481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y de Maupass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Sterling Pulled Drop Necklace jewel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0056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ae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cklace” takes place in Paris in the late 1880s.  At that time and in that place, social classes were all important; people were born into a certain class, and that was usually where they remained for the rest of their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Focu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ny: a contrast between appearance and re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mbol: an object, a person, a place, or an experience that represents something else (usually something abstrac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ecklace” question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Mathilde wish about hersel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her excuse for not being able to go to the par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Mme. Forestier (what does she do in the story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Mathilde have to fire her mai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rprise en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your own definitions/synonyms for the vocabulary terms found in the stor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essa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s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h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rbi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3:55:02Z</dcterms:created>
  <dc:creator>psrc</dc:creator>
  <dc:description/>
  <dc:language>en-US</dc:language>
  <cp:lastModifiedBy>Ms. McCall</cp:lastModifiedBy>
  <dcterms:modified xsi:type="dcterms:W3CDTF">2012-09-24T01:08:27Z</dcterms:modified>
  <cp:revision>15</cp:revision>
  <dc:subject/>
  <dc:title>“The Necklace”</dc:title>
</cp:coreProperties>
</file>